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666-432D-4026-8CA9-C90665A0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B7CE-BA53-4587-966C-BA29AC4A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266B-6031-4BD9-A48F-7FE14DAD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8735-0FE6-48F7-B6CB-EB26617A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38B3-E3E2-46A9-B2F6-5AD33A43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7D10-EFAE-4269-B8FB-F1392A2B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2C7A-B00D-433E-81D9-BDE0BA4B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AD59-762D-40B5-8B48-56050AAF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F710-335F-499E-A38B-4FDC9294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2BDD-46B1-45A6-B5F7-BC1EF21C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273A-5609-4E3B-B71E-A79B6046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577-9023-4A0B-8D10-6364BF73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8046-574A-4150-90B7-DFA93E73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1880-E356-4485-A1DD-83581338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A7DC-7CBF-42AB-B1A1-C1605201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1997-7628-45A7-B9DF-86AE66D1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FE49-3D74-4116-853D-B27E6674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7CCAB-B9FA-44EC-8CF2-AE4FAC61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855D4-C796-48D3-8132-D1C35432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A0BD1-E112-4EF2-80C0-A5F38B4F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F926E-5856-409D-9B66-9F1D6116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F5CB0-13F1-43F7-9C70-8E6A67E3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09C-6B57-4C3A-85E8-5640DC9E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9E415-3F75-4C48-83EE-A6D32D5B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8F87A-14D9-40DC-A8D3-E054D4BF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4F7AB-DC6B-409F-92D7-75F86E41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E19CF-FE8F-48AA-B30A-840E4268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ACF04-15F0-4712-8F92-9C99D302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7EEC2-E48F-4055-AE2D-E8570C14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E4485-B6B4-4086-9001-5CACBF3A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604C-A353-4F80-8659-9AC3F3B6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0F6B-653B-4CD5-87CC-521C22B7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8BA-5AFC-495B-AD46-B9E0FC67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C988-1F7D-4E22-AA4E-FD88631C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FF2E-386E-4DCC-B4D7-12D91FD8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921-4643-4703-80A2-62FC1B84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6700-4677-4EAC-BFFA-C3A23DD176B3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d1282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8F4C-55F2-44E1-93A5-AF4890E4CF18}" type="slidenum">
              <a:rPr b="1" lang="en-US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0C24-957C-4B7E-9143-0C8CFBFCBB74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6EFC-7985-4041-A1C6-E299D0DC2DAE}" type="slidenum"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D638-B00A-44DC-8F2E-0F3809C6114B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B4E2-2655-425C-B691-88EC11E0426D}" type="slidenum"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57913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1282e"/>
                </a:solidFill>
                <a:latin typeface="Arial Black"/>
              </a:rPr>
              <a:t>-----------------------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02040" y="625320"/>
            <a:ext cx="502776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CO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LIMENTACIÓ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RESPIRACIÓ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REPRODUCCIÓ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ESPÈCI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53840" y="1482840"/>
            <a:ext cx="32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oto!!!!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3:54:09Z</dcterms:created>
  <dc:creator>Laura Delgado Martínez</dc:creator>
  <dc:description/>
  <dc:language>en-US</dc:language>
  <cp:lastModifiedBy>Laura Delgado Martínez</cp:lastModifiedBy>
  <dcterms:modified xsi:type="dcterms:W3CDTF">2011-01-18T14:10:50Z</dcterms:modified>
  <cp:revision>3</cp:revision>
  <dc:subject/>
  <dc:title>mamífers</dc:title>
</cp:coreProperties>
</file>